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DE5D-BDE4-4A41-91B0-181FD10A0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7B10-AD06-4B45-A5A6-D10483032C6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F18E9-4D0E-49C8-96C9-4FC4DAE63FB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39080-FBE2-4710-BB1A-D9251D10C1A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F4BCE-23D3-4BC9-9631-CA2DA1165CB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120C2-5A86-4B3B-994C-2CAC14965F8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626F6-CAEF-4891-BA9C-4614EDFBAF3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9EE96-4CBE-40CA-9880-6232B7C31D4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F5EFF-3F72-4835-93A0-81250D641FE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8032F-7555-4BDE-9D7D-B45B0DB4182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2559B-65B5-41A8-B1EB-1811DBDAFD7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7957A-D830-45AF-A3E9-1A2BF55F7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413E-4208-4CD6-884B-4A7E21BB7AC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9EB9-6E1D-483F-926F-F105C970925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DC83F-8092-4B81-8E6D-5B56F8AA3A3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F26D4-08F3-4E81-93D6-346275526B9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B8E8-3288-47B8-BD2E-6A1D14051AF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9ABA7-C0E6-4E0B-B0AF-F0811CD393E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9EDDB-419E-4EFB-B4CC-9E3229E3F99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0ECED-308C-4A3D-9969-222C0FA9DF1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121B6-02BF-4D72-A358-EC6846BF829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52D9-5059-408A-92BD-81EAF04EE73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8A8FF-6597-4ED9-9208-129443788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0287-EFB4-423D-8D0D-04E11FBDF84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43B3-EC5F-4FA7-99FF-6985AF7C738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FE600-F640-4460-BEAB-081DD366AE0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404E2-4CA8-43C5-826A-27E22D55C71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C0895-8C2D-4C38-8765-C19395463CA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59F2E0-EB34-49D1-B9F4-EF425A95743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5E60BF-CF95-4CB8-87DA-71DCD741339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D582AC-806C-4533-A3BA-E28F59CA367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A2473-56F1-42E1-BC75-05E76B6EB27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345279-6ABB-47EF-8EE2-6D45C0455DE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76AEA2-B169-4F9D-B49D-9E6D632F8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75B8-1E4D-4702-814D-4E4C5253CCF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A1D665-353C-4992-85CB-EAD11DCE919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0387F4-D522-429E-8C46-336034201C2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D24AC6-A118-46A5-B0C4-2465C02B610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14CA13-925A-43D2-846C-5F2FF387DA7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1C779-E919-4CB6-A297-F6346101BE9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0CD18-A639-44A2-8EC5-63BC37C2EAB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37C70-0532-429A-B598-61C605503CC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6DC605-C2C3-4896-81B0-B535B59DA1E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6844D2-A97F-40B0-A495-881A0825D70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9B7DB-1715-4E7E-BF30-6F14575E07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98A94-F48C-45F3-9A04-CDB7AAD2FEC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A45F9C-9870-43EA-8564-C1770706CDC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D7F8AB-78EF-448A-9BE7-48012284C32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361D03-EEE4-4B0B-97C6-5BAC854D7CE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C4580-2828-4846-8CCB-865FEAC6370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4D9DC-4620-4D88-80B2-487731BA1F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E0FA2-9B54-46C0-A58E-9E0DF3B082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B9AFF-591C-4300-981F-4A88945790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864E6-7173-4727-AFC5-539AE3596D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4470-AFC0-457D-91AA-4D789591DF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76D2-F50B-4D03-A099-9D6210435D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69CB-29D4-4928-BD2B-3A5102AED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47A3-7154-4759-8A6D-19510A4D85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8FE85-7C55-4801-A965-FBD080D2C8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0926-01A2-4B1B-9F20-AAC3375D97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5D62-A459-470D-985E-A13E026F16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A8FFE-F57B-4919-85F6-ACC73FA99B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C80-3972-42C5-95FC-490C4C9B66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79D-E156-4332-92C7-0F65A2DC12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22F-5DE3-4DAE-A0BD-3A3399B5F7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00E-297C-4F23-9F98-554587E996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72A-A830-4E80-BAEF-D2AB2AFB9B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90BB-3922-45F0-8F52-8649BD3F64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A3A-5E5C-43FD-9498-7B001A7EA8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569-DCBA-461A-8D2B-450264A86B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767-31EE-4854-BBF4-55D5D33975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E6E-13C2-4862-9F39-316D4B5B6C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FD02-77C1-4843-BA62-63A04918E0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004-EAD7-4C3A-AD9A-7E164E08DB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243-DCC8-47B1-A93A-BCADC7CDD1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0566E-8941-4CE6-B6B8-D0F03FF80F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69A54-FB2A-4EFA-8C5D-6916DD191F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C4EBE-FF68-476C-81EF-E78DBC6C1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A5BC-ABAB-4F27-BAD9-CF9297AA44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E373E-8F64-488F-8FA4-A391977DCA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F6F94-AF17-4AA4-9C25-B2E57613F8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D7CC7-193E-419F-A436-9FF4AB1E27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14BA7-1F6F-4B14-83B9-D0D9E4464D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8013E-343A-4F5C-B092-EC9B6977EE8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417D0-8496-45B6-A88C-1F0EF586F5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60D05-2451-4665-9208-8BE53CBBCC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EB642-E72A-4774-AC1B-8884E7C424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0AB35-8A93-4D41-9018-3CCB94CDC38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480AA-C849-4439-A89E-CFC4AAE5D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7816-5FED-4A51-B7F0-D62AB7E88EF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3F8B9-39A0-44D0-BC62-C08B03A8B02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A73A3-87E4-4F46-B9F1-E78CE656AB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55B56-4078-4171-BF68-5594388DE3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FA4F8-4E65-42F3-AFBD-B6C98DF7CB6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E4E36-C62B-46C9-98CB-85401A9CDC5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2E038-99D5-4548-8BB1-8EFDF573EE4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11B4D-C28A-415A-8057-E38110F69EB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614DE-9863-4216-9C50-E70BCB0694E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C7332-3F71-4B91-8E0E-8BD6F2BD265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AB243-7477-4DBA-B74D-47997F699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B335-A57D-4A7A-B8BB-BA736A67E6D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0E4E5-551D-4845-AF07-7974DB33D8E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4057-5175-4FFA-95A2-5597D0D35F7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8060-3B64-44D8-9FFB-E7032C8C7B0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2C95-35D4-41D0-83A7-897ADD5019D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ACA3-E66A-4852-AF60-C6A4B487BAF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579B-B21F-4903-B2FF-A3A3A272291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C116-450F-49C2-B25B-62C554C88E4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ABCF-32FB-438C-93F3-55436D1C65B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6DC8-2107-4F72-A347-5D6EAAF5EA3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1A5C-2586-47D3-8370-1777CE394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18B8-49E1-4ABE-9AE5-34FCFC842E6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4AA3-C5C6-4FE5-B382-771D9643F97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4C55-70F1-4D66-95F9-84DCE2CDB62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51A0-B3F6-4C9C-AC5B-D4DFA6EE6E2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48477B-E28E-404D-8178-A9BB833F51B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A95D6C-B489-49C4-ACA7-358BD237CB8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2A40F8-1865-4303-9942-6F6AB0B79F4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A1F2F1-E6F8-4F15-9BA9-624DAC0F426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8C57DB-EFFB-4D1F-97CE-495EB5BC72C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FA7C25-7C93-450A-90EB-7D68BE67667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8F2513-F699-4152-9E64-452939BDF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749E-208D-4466-9F2D-19C88816D30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199B20-9A6E-4C53-86C8-77999D91C1D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A39B4-1FB4-41A4-8227-6A66E1441E3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ABA60E-14F1-41D8-94BE-EF051D60373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D97F6E-487D-40DD-999B-C2908458268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89FCD8-8232-4835-A3DD-E21E051D0C3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A872-BC41-4704-888C-3B910C48452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E7025-081A-4C68-BA88-90ED908E56B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26A0D-AFBC-4AFB-B382-C1C3E487222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CD1B9-2DA2-4F5E-9BBB-F5CC4D493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4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sldNum" idx="1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A0CA-DA59-4CA8-B79E-35B0A4233355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4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405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sldNum" idx="9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E5EB-C031-4A55-8E40-0CEDD6760B6D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449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sldNum" idx="10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2CEB-4FBC-411B-822C-CF62CCF4F15A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493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sldNum" idx="11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77D0-2969-45CD-B252-AD5463D7CA3A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48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sldNum" idx="2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C2B5-3556-468E-B92F-9AB2874B7EBA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92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hteck 6"/>
          <p:cNvSpPr/>
          <p:nvPr/>
        </p:nvSpPr>
        <p:spPr>
          <a:xfrm>
            <a:off x="8352000" y="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8f6d5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e8f6d5"/>
                </a:solidFill>
                <a:latin typeface="Wingdings"/>
                <a:ea typeface="Wingdings"/>
              </a:rPr>
              <a:t>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1455840" y="6308640"/>
            <a:ext cx="63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d8e1c"/>
                </a:solidFill>
                <a:latin typeface="Arial"/>
              </a:rPr>
              <a:t>Mit Kunden der Verkehrsunternehmen umg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Num" idx="3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9F62-9DB9-460E-B241-5B784282782A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140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sldNum" idx="4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4440-22EB-44A5-BED2-62BDC09A5AF2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184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sldNum" idx="5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732F-4C31-4110-8424-2C9137D14179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228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sldNum" idx="6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7E35-0F8E-4A44-AA8F-3D0059E96398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272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sldNum" idx="7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9876-CABD-4662-926D-A525791A529B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9"/>
          <p:cNvSpPr/>
          <p:nvPr/>
        </p:nvSpPr>
        <p:spPr>
          <a:xfrm>
            <a:off x="0" y="630396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316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16"/>
          <p:cNvSpPr/>
          <p:nvPr/>
        </p:nvSpPr>
        <p:spPr>
          <a:xfrm>
            <a:off x="431640" y="6148440"/>
            <a:ext cx="8266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d8e1c"/>
                </a:solidFill>
                <a:latin typeface="Arial"/>
              </a:rPr>
              <a:t>Mit Kunden der Verkehrsunternehmen umg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6"/>
          <p:cNvSpPr/>
          <p:nvPr/>
        </p:nvSpPr>
        <p:spPr>
          <a:xfrm>
            <a:off x="8352000" y="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8f6d5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e8f6d5"/>
                </a:solidFill>
                <a:latin typeface="Wingdings"/>
                <a:ea typeface="Wingdings"/>
              </a:rPr>
              <a:t>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361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sldNum" idx="8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2E5C-955D-410B-885D-CE6F325825A5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liennummernplatzhalter 5"/>
          <p:cNvSpPr/>
          <p:nvPr/>
        </p:nvSpPr>
        <p:spPr>
          <a:xfrm>
            <a:off x="655164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CBF9-E6F1-48E4-8E24-CE730825D9D7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"/>
          <p:cNvSpPr/>
          <p:nvPr/>
        </p:nvSpPr>
        <p:spPr>
          <a:xfrm>
            <a:off x="755640" y="166680"/>
            <a:ext cx="7561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d8e1c"/>
                </a:solidFill>
                <a:latin typeface="Arial"/>
              </a:rPr>
              <a:t>Die vier Seiten einer Nachr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71280" y="15228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8496360" y="36828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1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7"/>
          <p:cNvSpPr/>
          <p:nvPr/>
        </p:nvSpPr>
        <p:spPr>
          <a:xfrm>
            <a:off x="250920" y="814320"/>
            <a:ext cx="2341440" cy="900360"/>
          </a:xfrm>
          <a:prstGeom prst="ellipse">
            <a:avLst/>
          </a:prstGeom>
          <a:solidFill>
            <a:srgbClr val="d1edae"/>
          </a:solidFill>
          <a:ln w="3816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d8e1c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8"/>
          <p:cNvSpPr/>
          <p:nvPr/>
        </p:nvSpPr>
        <p:spPr>
          <a:xfrm>
            <a:off x="6192720" y="814320"/>
            <a:ext cx="2341800" cy="900360"/>
          </a:xfrm>
          <a:prstGeom prst="ellipse">
            <a:avLst/>
          </a:prstGeom>
          <a:solidFill>
            <a:srgbClr val="d1edae"/>
          </a:solidFill>
          <a:ln w="3816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d8e1c"/>
                </a:solidFill>
                <a:latin typeface="Arial"/>
              </a:rPr>
              <a:t>Empfä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9"/>
          <p:cNvSpPr/>
          <p:nvPr/>
        </p:nvSpPr>
        <p:spPr>
          <a:xfrm>
            <a:off x="71280" y="1808280"/>
            <a:ext cx="3060720" cy="900000"/>
          </a:xfrm>
          <a:prstGeom prst="rect">
            <a:avLst/>
          </a:prstGeom>
          <a:solidFill>
            <a:srgbClr val="e8f6d5"/>
          </a:solidFill>
          <a:ln w="1260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ch informiere meinen G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ächspart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0"/>
          <p:cNvSpPr/>
          <p:nvPr/>
        </p:nvSpPr>
        <p:spPr>
          <a:xfrm>
            <a:off x="6012000" y="1808280"/>
            <a:ext cx="3060720" cy="900000"/>
          </a:xfrm>
          <a:prstGeom prst="rect">
            <a:avLst/>
          </a:prstGeom>
          <a:solidFill>
            <a:srgbClr val="e8f6d5"/>
          </a:solidFill>
          <a:ln w="1260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ist das, was der Andere m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gt, zu versteh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22"/>
          <p:cNvSpPr/>
          <p:nvPr/>
        </p:nvSpPr>
        <p:spPr>
          <a:xfrm>
            <a:off x="3424320" y="1808280"/>
            <a:ext cx="2341440" cy="900000"/>
          </a:xfrm>
          <a:prstGeom prst="ellipse">
            <a:avLst/>
          </a:prstGeom>
          <a:solidFill>
            <a:srgbClr val="d1edae"/>
          </a:solidFill>
          <a:ln w="3816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d8e1c"/>
                </a:solidFill>
                <a:latin typeface="Arial"/>
              </a:rPr>
              <a:t>Sachasp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3"/>
          <p:cNvSpPr/>
          <p:nvPr/>
        </p:nvSpPr>
        <p:spPr>
          <a:xfrm>
            <a:off x="71280" y="2889360"/>
            <a:ext cx="3060720" cy="900000"/>
          </a:xfrm>
          <a:prstGeom prst="rect">
            <a:avLst/>
          </a:prstGeom>
          <a:solidFill>
            <a:srgbClr val="e8f6d5"/>
          </a:solidFill>
          <a:ln w="1260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ch sage was ich von mein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nüber halte und wie ich z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m/ihr ste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4"/>
          <p:cNvSpPr/>
          <p:nvPr/>
        </p:nvSpPr>
        <p:spPr>
          <a:xfrm>
            <a:off x="6012000" y="2889360"/>
            <a:ext cx="3060720" cy="900000"/>
          </a:xfrm>
          <a:prstGeom prst="rect">
            <a:avLst/>
          </a:prstGeom>
          <a:solidFill>
            <a:srgbClr val="e8f6d5"/>
          </a:solidFill>
          <a:ln w="1260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hält der Andere von mi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ist die Beziehung zu mi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redet er heute mit mi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5"/>
          <p:cNvSpPr/>
          <p:nvPr/>
        </p:nvSpPr>
        <p:spPr>
          <a:xfrm>
            <a:off x="3424320" y="2889360"/>
            <a:ext cx="2341440" cy="900000"/>
          </a:xfrm>
          <a:prstGeom prst="ellipse">
            <a:avLst/>
          </a:prstGeom>
          <a:solidFill>
            <a:srgbClr val="d1edae"/>
          </a:solidFill>
          <a:ln w="3816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d8e1c"/>
                </a:solidFill>
                <a:latin typeface="Arial"/>
              </a:rPr>
              <a:t>Beziehungsasp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6"/>
          <p:cNvSpPr/>
          <p:nvPr/>
        </p:nvSpPr>
        <p:spPr>
          <a:xfrm>
            <a:off x="71280" y="3968640"/>
            <a:ext cx="3060720" cy="900360"/>
          </a:xfrm>
          <a:prstGeom prst="rect">
            <a:avLst/>
          </a:prstGeom>
          <a:solidFill>
            <a:srgbClr val="e8f6d5"/>
          </a:solidFill>
          <a:ln w="1260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ch stelle mich selbst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7"/>
          <p:cNvSpPr/>
          <p:nvPr/>
        </p:nvSpPr>
        <p:spPr>
          <a:xfrm>
            <a:off x="6012000" y="3968640"/>
            <a:ext cx="3060720" cy="900360"/>
          </a:xfrm>
          <a:prstGeom prst="rect">
            <a:avLst/>
          </a:prstGeom>
          <a:solidFill>
            <a:srgbClr val="e8f6d5"/>
          </a:solidFill>
          <a:ln w="1260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der Andere für e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nsc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shalb verhält er sich 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8"/>
          <p:cNvSpPr/>
          <p:nvPr/>
        </p:nvSpPr>
        <p:spPr>
          <a:xfrm>
            <a:off x="3424320" y="3968640"/>
            <a:ext cx="2341440" cy="900360"/>
          </a:xfrm>
          <a:prstGeom prst="ellipse">
            <a:avLst/>
          </a:prstGeom>
          <a:solidFill>
            <a:srgbClr val="d1edae"/>
          </a:solidFill>
          <a:ln w="3816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d8e1c"/>
                </a:solidFill>
                <a:latin typeface="Arial"/>
              </a:rPr>
              <a:t>Selbstoffenb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d8e1c"/>
                </a:solidFill>
                <a:latin typeface="Arial"/>
              </a:rPr>
              <a:t>rungsasp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71280" y="5049720"/>
            <a:ext cx="3060720" cy="900360"/>
          </a:xfrm>
          <a:prstGeom prst="rect">
            <a:avLst/>
          </a:prstGeom>
          <a:solidFill>
            <a:srgbClr val="e8f6d5"/>
          </a:solidFill>
          <a:ln w="1260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ch beeinflusse mein Gegenü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Handel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6012000" y="5049720"/>
            <a:ext cx="3060720" cy="900360"/>
          </a:xfrm>
          <a:prstGeom prst="rect">
            <a:avLst/>
          </a:prstGeom>
          <a:solidFill>
            <a:srgbClr val="e8f6d5"/>
          </a:solidFill>
          <a:ln w="1260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erwartet er von mi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ich tu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1"/>
          <p:cNvSpPr/>
          <p:nvPr/>
        </p:nvSpPr>
        <p:spPr>
          <a:xfrm>
            <a:off x="3424320" y="5049720"/>
            <a:ext cx="2341440" cy="900360"/>
          </a:xfrm>
          <a:prstGeom prst="ellipse">
            <a:avLst/>
          </a:prstGeom>
          <a:solidFill>
            <a:srgbClr val="d1edae"/>
          </a:solidFill>
          <a:ln w="3816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d8e1c"/>
                </a:solidFill>
                <a:latin typeface="Arial"/>
              </a:rPr>
              <a:t>Appellasp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11:10:21Z</dcterms:created>
  <dc:creator>Frank Lenz</dc:creator>
  <dc:description/>
  <dc:language>en-US</dc:language>
  <cp:lastModifiedBy>Hurst, Ulrike, Springer Fachmedien Muenchen</cp:lastModifiedBy>
  <cp:lastPrinted>2001-11-27T12:10:22Z</cp:lastPrinted>
  <dcterms:modified xsi:type="dcterms:W3CDTF">2018-02-20T10:01:33Z</dcterms:modified>
  <cp:revision>718</cp:revision>
  <dc:subject/>
  <dc:title>BKF</dc:title>
</cp:coreProperties>
</file>